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F0DE13-3DFB-42D2-987B-1DE99329C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25524F-716C-480C-8FC5-71FD84A15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E9686D-46EA-4666-8C34-38A870A686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40865F-9D92-45E6-87D0-9286C02716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30C48-D7FC-45AB-AC5B-D18AC444F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2362C-E752-419A-BD10-F2F38635C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FE55F-B7E2-4937-82D2-E474B5C8F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4CA06-D7D0-436A-98D8-85E9E3433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6BD1E-1B24-4145-9E63-A4EB24ED0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7E416-695D-4FCC-B42E-B792FBAE5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22942-3A96-43C8-BC4D-347B1F020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EEECEB-52DF-49E7-B121-62851D9B8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D52B6-A0E2-4466-B9DC-93CD7C9DE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59071-A888-45F9-BB97-08FF09E67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F1E17-3202-49A8-95FA-755B1DBEA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56125-C652-4DDF-B385-9AED348D2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53108-5277-418C-A785-A42D4332F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405D0A-B924-485B-A302-3FF637B78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3C963E-3416-40FD-ABF8-5DC478BA5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3437A6-7878-4B44-87F2-45E5010E2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54384B-E1BD-4D60-B494-35D8184FA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6DFBE6-C195-4480-B9F8-373FC6985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952371-FBED-4BB5-AE9C-1834B5CAE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AA5B5C-B826-4130-8CE6-6F011EB291A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36CB-0CC0-44F0-ACBD-AA92E079CD9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D54B-41BB-44AF-AF97-F546D668156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hamber Music within the Large Ensemble Program</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ortfolio Presentation</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ian Nivis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Unit Summary</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udy and performance of chamber music is an essential part of every student's artistic development. Collaborating with others in the interpretive process sparks the imagination which expands our sense of articulation, character and color, and inspires us to recreate a work in a more meaningful way. The vast and infinitely rich repertoire of chamber music allows students to participate in groups of widely varied instrumentation from the baroque period to the music of toda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rriculum Framing-Question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ssential Question:</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makes for a mature musician?</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it Ques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ow can improvement be accomplished with individual music skills on an instrumen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What skills can be transferred from a small ensemble to a large ensemble? </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tent Ques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How do you improve performance of part independenc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ow do you improve performance of accurac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ow do you improve performance of intonation, balance, and tone quality?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ision for Unit</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y creating this unit, I want to</a:t>
            </a:r>
            <a:endParaRPr b="0" lang="en-US" sz="32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Tahoma"/>
              </a:rPr>
              <a:t>Make large ensemble rehearsals more efficient</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Tahoma"/>
              </a:rPr>
              <a:t>Introduce different and diverse genres of music not typically encountered in band musi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5:42Z</dcterms:created>
  <dc:creator>Eldred Central School</dc:creator>
  <dc:description/>
  <dc:language>en-US</dc:language>
  <cp:lastModifiedBy>Eldred Central School</cp:lastModifiedBy>
  <dcterms:modified xsi:type="dcterms:W3CDTF">2010-06-30T18:28:15Z</dcterms:modified>
  <cp:revision>2</cp:revision>
  <dc:subject/>
  <dc:title>Chamber Music within the Large Ensemble Program</dc:title>
</cp:coreProperties>
</file>